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009-A9D3-4FCD-98A5-1BDE8651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FF4-E4D1-4598-8765-6D97B01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AB8-1298-4912-B28A-FB8B489B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897-510F-4435-8144-EECF4872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AAF-454E-43F5-9875-A14EE4F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E1F-9AE8-47DF-9B54-56EBC958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CE6-406F-410C-96FA-4B78DBB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209-7C38-42F6-BD7D-C1E5ABF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0EA-166F-43A7-8E0F-677A55C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BA9-F578-432F-934D-A7FAE2B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8CA-EBED-4ECA-8953-9343EF2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893-93E7-417F-B3BA-D7D7616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6482-0360-4F5B-9B95-13348299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../../Documents%20and%20Settings/wjp/Local%20Settings/Temp/QA_ontology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../../../Documents%20and%20Settings/wjp/Local%20Settings/Temp/QA_explore2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2057400"/>
            <a:ext cx="19051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ve Pi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g Br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Kenne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yanne Mar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ak Ozy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yl Bo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ndy Ples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hael H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47800" y="1523880"/>
            <a:ext cx="6191280" cy="4149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914400"/>
            <a:ext cx="746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act directly with info viz of BIRNLex subset to explore local context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3880"/>
            <a:ext cx="1905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nter sear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ist of ma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ee FOV sl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scription of match, UMLS and Neuronames 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1752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638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ick, pan, zoom to 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/>
          </p:cNvPr>
          <p:cNvSpPr/>
          <p:nvPr/>
        </p:nvSpPr>
        <p:spPr>
          <a:xfrm>
            <a:off x="6921000" y="613260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play movie 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7308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 search terms in relevant categori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pecies, group, brain structure, cell, gene, mis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72200" y="1720800"/>
            <a:ext cx="2514600" cy="277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429000" y="1720800"/>
            <a:ext cx="2514600" cy="165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5800" y="1720800"/>
            <a:ext cx="2514600" cy="1033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502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960" y="14158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41588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2360" y="14158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in struc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63068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ect search target and search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ppropriate queries are formulated for selected search targ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62120" y="5029200"/>
            <a:ext cx="26668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120" y="1447920"/>
            <a:ext cx="32544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ulated urls and those retrieved from search are disp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may be opened in a browser and a set  may be  reserved in a “bundle” for la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“Bundles” can be saved out as bookma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579600"/>
            <a:ext cx="3124080" cy="2544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307008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4495320" y="106668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1066680"/>
            <a:ext cx="22096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240" y="976320"/>
            <a:ext cx="28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xpand the Query Results pane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83808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experimenting with “meaningful” display of retrieved information in the anatomical contex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0572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295280"/>
            <a:ext cx="7467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fining the current implementation: Engineering and design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ct use cases that help to inform Query Atlas interface design and functio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would you use this tool in the context of your resear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search-term categories, relating to anatomical structure, are important and appropria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nformation repositories are important to includ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d steps for downloading from HID or other XCEDE-compliant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xtending the implementation: Research qu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combine atlas in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nformation is interesting and relevant to view in Slicer’s 3D viewer, or a separate displa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ng experimental  natural language parsing tools for query formu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Slicer Version 3 (Slicer3) for fBI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295280"/>
            <a:ext cx="74674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licer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-Platform Integrated Visualization and Analysi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ructure /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-Site Development: BWH, MIT, GE, Kitware, Isomics, UCSD, JHU, MGH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-Project Scope: fBIRN, mBIRN, NAC, NA-MIC, NCIGT, RO1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mpa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IRN Informatics and Data (XCEDE) Compatibility with Range of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rage Active Dissemination and Training Efforts of Partner G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029120"/>
            <a:ext cx="3733560" cy="249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81480" y="4116240"/>
            <a:ext cx="2362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 for fBI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068480"/>
            <a:ext cx="74674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Between Images and Wor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arget Audien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euroscientis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Address “Information Overload” with Ontology-Aware To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ol Build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Reference Implementation of XCEDE Compliant Application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n-Specialis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ducational Tool and Compelling Demonstration of Data Rich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ole in July - Octob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ible, High-Impact End User Deliv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lustration of Cross-Testbed Leverage of BIRN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 a Tight, Usable Application – Slicer3 Release with Query Atlas in J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 Download/Install/Test on Wide Range of Machines (Mac, Windows, Lin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Example Videos &amp; Tuto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er Term: Natural Language, Machine Learning, 3D Information 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r3 / XC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85840"/>
            <a:ext cx="7467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: Download volumetric analyses from XCEDE-compliant databas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ize volumes, models and parametric map overl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stical Information is Annotated with Anatomy Lab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541600"/>
            <a:ext cx="3767040" cy="370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27520" y="2541600"/>
            <a:ext cx="37306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295280"/>
            <a:ext cx="74674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Slicer-based gateway to life sciences databa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 researchers formulate complicated and focused queries in the context of particular volumetric study results (fMRI activations or group statistics, fo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 researchers manage collections of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fully display retrieved information in the anatomic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tatu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type under development built on Slicer3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design demonstrates 3D interaction and query formulation, leverages BIRN Project ontology, and relates returned results to anatomical context through information visual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mediate goal: Collect use cases to drive design, and gather feedback from user community on design, feature requ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320840"/>
            <a:ext cx="7162560" cy="5537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8380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licer3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urrently Beta-2 release available: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ttp://www.na-mic.org/Slicer/Download/Snapshot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7520" y="1752480"/>
            <a:ext cx="170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Interfa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ier for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Execution mod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ier for develop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18584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3640" cy="563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81280" y="1987560"/>
            <a:ext cx="1647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oad, exp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uild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hoose 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View, manag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241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241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2546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752480" y="2133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7524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774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77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52480" y="3079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914400"/>
            <a:ext cx="746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ulate queries in the context of anatomical structure with overlayed parametric map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3880"/>
            <a:ext cx="167616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se 3D display of data to directly select structur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mpact GUI organized by search-term “categori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an browse related BIRNLex terms to clarify/enrich selected search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5120" y="28195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05120" y="42667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6019920" cy="445752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2"/>
          </p:cNvPr>
          <p:cNvSpPr/>
          <p:nvPr/>
        </p:nvSpPr>
        <p:spPr>
          <a:xfrm>
            <a:off x="6921000" y="613260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play movie 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914400"/>
            <a:ext cx="746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unch BIRNLex information visualization (Java, Prefuse) to search for structure name: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523880"/>
            <a:ext cx="190512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lates FreeSurfer label into BIRNLex sear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nds display request to Ontology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ntology browser opens (subset of BIRNLex) to matching term, or provides lists of matches to choose fr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172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7:36:00Z</dcterms:created>
  <dc:creator>spl</dc:creator>
  <dc:description/>
  <dc:language>en-US</dc:language>
  <cp:lastModifiedBy>spl</cp:lastModifiedBy>
  <dcterms:modified xsi:type="dcterms:W3CDTF">2007-04-13T12:15:14Z</dcterms:modified>
  <cp:revision>68</cp:revision>
  <dc:subject/>
  <dc:title>PowerPoint Presentation</dc:title>
</cp:coreProperties>
</file>