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6ABA-7A17-4AF8-B610-DCDBF2569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CB7C-B0E8-4489-BEAD-CDC7ABF02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4FEA-1062-4F5B-82FA-22340A4AB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ADB3-9593-4A47-8CCE-609E6FFA1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81D7-4407-4310-A201-DA3ACD8E8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7FBC-0835-4FF5-8D70-CB7390745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DEF6-886B-406F-8B0D-BE5878899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54F1-A145-49C1-8727-3F65961BA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AF96-621D-4E92-81D2-523FDA29A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B60E-E8C4-4D7B-BCAD-09DEB5755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833-009D-44F4-8023-3908EF3E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296-48B6-4C90-8669-E2272EF3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9AB-88BE-41E2-9FF0-E0355A2A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62F-652A-4971-8C26-FE20035D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E2D-A5DB-4E5A-BB56-8C2454DA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DB3-6B05-4596-853E-7AB29F05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A14-2AA5-4B2F-A561-832175E4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5CC-DA9C-407C-96C3-82C80149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228-F135-4F52-9418-2B94DC94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283-378A-44B4-8FA2-F64FF604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8D6-CC67-4E39-88A8-ADA3E2BE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F7A-8CA4-4C06-B482-35613A30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F21C-8F1A-48A1-B9E4-D581E274D8D2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rcRect l="10074" t="12123" r="75830" b="67679"/>
          <a:stretch/>
        </p:blipFill>
        <p:spPr>
          <a:xfrm>
            <a:off x="8001000" y="6248520"/>
            <a:ext cx="453960" cy="48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rcRect l="10707" t="12288" r="75196" b="66170"/>
          <a:stretch/>
        </p:blipFill>
        <p:spPr>
          <a:xfrm>
            <a:off x="8481960" y="6267600"/>
            <a:ext cx="409680" cy="468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38080" y="23144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mage-guided Flexible Instrument Mani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"/>
          <p:cNvSpPr/>
          <p:nvPr/>
        </p:nvSpPr>
        <p:spPr>
          <a:xfrm>
            <a:off x="152280" y="1219320"/>
            <a:ext cx="8534520" cy="0"/>
          </a:xfrm>
          <a:prstGeom prst="line">
            <a:avLst/>
          </a:prstGeom>
          <a:ln w="28440">
            <a:solidFill>
              <a:srgbClr val="008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29560" y="392760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yender Jagadee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theter Model in Slice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aluate if the continuum robot model describes the behavior of cat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Rectangle 3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410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243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Clinical Evaluation of GII: Retrospective Case 1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if GII is a measure of dexterity of the cat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patient suffering from Atrial Fibril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A images loaded into 3D Sl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 slices with resolution 0.4mmx0.4mmx0.7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the transseptal puncture on the septal wall using the Navx Ensi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ian delineated areas which were difficult to navi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Result of Retrospective Case 1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06960" y="5764320"/>
            <a:ext cx="80157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rroborates with the clinician’s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189080"/>
            <a:ext cx="5715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Retrospective Case 2: Optimal Puncture Location Evaluatio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optimal transseptal punctur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T scan of a female patient with Atrial Fibri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 slices, 0.4mm x 0.4mm x 0.7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atrium and septal wall segmented from the CT images in 3D Sl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Results of Retrospective Case 2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 algorithm results in a discrete set of points which provide the best maneuverability of the catheter in the left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Septal-wall2"/>
          <p:cNvPicPr/>
          <p:nvPr/>
        </p:nvPicPr>
        <p:blipFill>
          <a:blip r:embed="rId1"/>
          <a:stretch/>
        </p:blipFill>
        <p:spPr>
          <a:xfrm>
            <a:off x="685800" y="1649520"/>
            <a:ext cx="4038480" cy="3049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Septal-wall-LA"/>
          <p:cNvPicPr/>
          <p:nvPr/>
        </p:nvPicPr>
        <p:blipFill>
          <a:blip r:embed="rId2"/>
          <a:stretch/>
        </p:blipFill>
        <p:spPr>
          <a:xfrm>
            <a:off x="4952880" y="1828800"/>
            <a:ext cx="39625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rigid link robot literature to model flexible link robots such as cath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ed concepts from robotics to describe manipulability of the cath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ft Atrial Catheter Abl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94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Limited Dexterity due to Transseptal Puncture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57" name="Picture 3" descr="cardiac-ablation"/>
          <p:cNvPicPr/>
          <p:nvPr/>
        </p:nvPicPr>
        <p:blipFill>
          <a:blip r:embed="rId1"/>
          <a:stretch/>
        </p:blipFill>
        <p:spPr>
          <a:xfrm>
            <a:off x="2286000" y="1905120"/>
            <a:ext cx="4419720" cy="3551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00400" y="3200400"/>
            <a:ext cx="838440" cy="274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23280" y="579132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septal Pun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562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dexterity result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ifficul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ching some points in left atrium [Pappone 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rror ampl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aster to slave 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ub-optimal force, hence incomplete ab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ood 200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Catheter-LA2"/>
          <p:cNvPicPr/>
          <p:nvPr/>
        </p:nvPicPr>
        <p:blipFill>
          <a:blip r:embed="rId1"/>
          <a:stretch/>
        </p:blipFill>
        <p:spPr>
          <a:xfrm>
            <a:off x="5410080" y="1508040"/>
            <a:ext cx="3657600" cy="2759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48769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hoosing optimal location for transseptal puncture is clinically signific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124080" y="2362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Objective of This Study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assess the method to fi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timal location for transseptal 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ximiz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xte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atheter in the left at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2068560"/>
            <a:ext cx="45720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lobal Isotrop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15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3768840"/>
            <a:ext cx="5680080" cy="1112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50641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          and            are the minimum and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ular values of the Jacobia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52480" y="5083200"/>
            <a:ext cx="685800" cy="446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00400" y="5108400"/>
            <a:ext cx="762120" cy="43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94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obian-based performance index to assess the level of uniformity in manipulator’s 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51040" y="281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Kinematic Model of Cathete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um Rob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renet-Serret fr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degrees of freedom – two revolute and 1 prismatic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matrix (Φ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point (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Model"/>
          <p:cNvPicPr/>
          <p:nvPr/>
        </p:nvPicPr>
        <p:blipFill>
          <a:blip r:embed="rId1"/>
          <a:stretch/>
        </p:blipFill>
        <p:spPr>
          <a:xfrm>
            <a:off x="5632560" y="1371600"/>
            <a:ext cx="3076560" cy="480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472428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lobal Isotropy Index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5288040"/>
            <a:ext cx="5680080" cy="1112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3048120"/>
            <a:ext cx="8321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CatheterConfiguration_1"/>
          <p:cNvPicPr/>
          <p:nvPr/>
        </p:nvPicPr>
        <p:blipFill>
          <a:blip r:embed="rId2"/>
          <a:stretch/>
        </p:blipFill>
        <p:spPr>
          <a:xfrm>
            <a:off x="2438280" y="1523880"/>
            <a:ext cx="4648320" cy="314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H="1">
            <a:off x="1752120" y="3276720"/>
            <a:ext cx="259092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3276720"/>
            <a:ext cx="236196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664160"/>
            <a:ext cx="32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eter end-effector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4587840"/>
            <a:ext cx="32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eter base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"/>
              </a:rPr>
              <a:t>Heart Mod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490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06760" y="609588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lice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1:26:52Z</dcterms:created>
  <dc:creator>Linda Jurkowitz</dc:creator>
  <dc:description/>
  <dc:language>en-US</dc:language>
  <cp:lastModifiedBy>JJ</cp:lastModifiedBy>
  <dcterms:modified xsi:type="dcterms:W3CDTF">2010-03-19T17:46:01Z</dcterms:modified>
  <cp:revision>115</cp:revision>
  <dc:subject/>
  <dc:title>PowerPoint Presentation</dc:title>
</cp:coreProperties>
</file>