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CAB4-6A8A-4FF8-8508-9C966F981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cer has multiple configurations to present image volumes. By default, the normal view is selected. In normal view, the viewer window is divided into two sec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pper portion of the view window shows the 3D formatted version. In the lower quarter of the viewer window, a 2D multi-plane formatted version of the volume is show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4920" y="265680"/>
            <a:ext cx="72392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4920" y="1371600"/>
            <a:ext cx="7162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94920" y="3759840"/>
            <a:ext cx="7162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265680"/>
            <a:ext cx="72392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1371600"/>
            <a:ext cx="3495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65480" y="1371600"/>
            <a:ext cx="3495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3759840"/>
            <a:ext cx="3495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65480" y="3759840"/>
            <a:ext cx="3495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4920" y="265680"/>
            <a:ext cx="72392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4920" y="1371600"/>
            <a:ext cx="230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16640" y="1371600"/>
            <a:ext cx="230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8720" y="1371600"/>
            <a:ext cx="230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94920" y="3759840"/>
            <a:ext cx="230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16640" y="3759840"/>
            <a:ext cx="230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8720" y="3759840"/>
            <a:ext cx="230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265680"/>
            <a:ext cx="72392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94920" y="137160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4920" y="265680"/>
            <a:ext cx="72392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4920" y="137160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4920" y="265680"/>
            <a:ext cx="72392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4920" y="1371600"/>
            <a:ext cx="3495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5480" y="1371600"/>
            <a:ext cx="3495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265680"/>
            <a:ext cx="72392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72392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265680"/>
            <a:ext cx="72392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371600"/>
            <a:ext cx="3495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5480" y="1371600"/>
            <a:ext cx="3495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94920" y="3759840"/>
            <a:ext cx="3495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265680"/>
            <a:ext cx="72392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371600"/>
            <a:ext cx="3495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5480" y="1371600"/>
            <a:ext cx="3495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65480" y="3759840"/>
            <a:ext cx="3495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265680"/>
            <a:ext cx="72392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371600"/>
            <a:ext cx="3495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65480" y="1371600"/>
            <a:ext cx="3495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4920" y="3759840"/>
            <a:ext cx="7162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22350"/>
          <a:stretch/>
        </p:blipFill>
        <p:spPr>
          <a:xfrm>
            <a:off x="304920" y="228600"/>
            <a:ext cx="1600200" cy="838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4920" y="137160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206360" y="1028880"/>
            <a:ext cx="7315200" cy="0"/>
          </a:xfrm>
          <a:prstGeom prst="line">
            <a:avLst/>
          </a:prstGeom>
          <a:ln w="284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95280" y="6172200"/>
            <a:ext cx="3124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rgical Planning Labora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licer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6400800"/>
            <a:ext cx="533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fld id="{5ABF8B74-8B0E-4170-9B63-0CF0DCD7F590}" type="slidenum">
              <a:rPr b="0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219320" y="228600"/>
            <a:ext cx="7315200" cy="0"/>
          </a:xfrm>
          <a:prstGeom prst="line">
            <a:avLst/>
          </a:prstGeom>
          <a:ln w="284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219320" y="6095880"/>
            <a:ext cx="7315200" cy="0"/>
          </a:xfrm>
          <a:prstGeom prst="line">
            <a:avLst/>
          </a:prstGeom>
          <a:ln w="284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867280" y="6273720"/>
            <a:ext cx="264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righam and Women’s Hosp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DSlicer Registration Libr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Tutorial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01 - TumorGrowth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a-subject brain MR, T1-weigh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71840" y="5562720"/>
            <a:ext cx="2438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inik Meier, Ph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Eval. Registration 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58000" y="1371600"/>
            <a:ext cx="1828800" cy="1066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267080" y="1447920"/>
            <a:ext cx="2362320" cy="1728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 flipV="1">
            <a:off x="3962520" y="2742840"/>
            <a:ext cx="144756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0080" y="2590920"/>
            <a:ext cx="457200" cy="2286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7010280" y="2361960"/>
            <a:ext cx="45720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67480" y="2133720"/>
            <a:ext cx="457200" cy="2286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Subtraction Ima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3047760" cy="3822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809880" y="1219320"/>
            <a:ext cx="2313000" cy="1893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477120" y="1447920"/>
            <a:ext cx="2209680" cy="138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7209000" y="4419720"/>
            <a:ext cx="1706400" cy="1652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5257800" y="4648320"/>
            <a:ext cx="1828800" cy="1363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5257800" y="3200400"/>
            <a:ext cx="1461960" cy="1373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4267080" y="3809520"/>
            <a:ext cx="144792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15000" y="3657600"/>
            <a:ext cx="457200" cy="2286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191120" y="5181120"/>
            <a:ext cx="144756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5029200"/>
            <a:ext cx="457200" cy="2286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Save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406520" cy="1900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2558880" cy="2342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638680" y="1676520"/>
            <a:ext cx="3094200" cy="1674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 flipV="1">
            <a:off x="3048120" y="2819520"/>
            <a:ext cx="685800" cy="1295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2514600"/>
            <a:ext cx="685800" cy="304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352680"/>
            <a:ext cx="60984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238880" y="2590560"/>
            <a:ext cx="609840" cy="533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94920" y="137160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 image orientation data is preserved in the header of your image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parameter settings along recommended pre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initial misalignment and registration result via foreground/background slider and toggle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99840" y="1371600"/>
            <a:ext cx="7086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Neuroimage Analysis Center ARRA Suppl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H P41RR013218-12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Neuroimage Analysis Cen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H P41RR01321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National Alliance for Medical Image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H U54EB005149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41320" y="2552760"/>
            <a:ext cx="480960" cy="838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62120" y="3505320"/>
            <a:ext cx="641160" cy="761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841320" y="1600200"/>
            <a:ext cx="4809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137160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the responsibility of the user of 3DSl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ply with both the terms of the lic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ith the applicable laws, reg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rule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Load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1415880" cy="2187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286000" y="1371600"/>
            <a:ext cx="3581280" cy="1382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257800" y="2438280"/>
            <a:ext cx="533520" cy="533520"/>
          </a:xfrm>
          <a:prstGeom prst="ellipse">
            <a:avLst/>
          </a:prstGeom>
          <a:solidFill>
            <a:srgbClr val="ffcc00">
              <a:alpha val="27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2057400"/>
            <a:ext cx="533520" cy="533520"/>
          </a:xfrm>
          <a:prstGeom prst="ellipse">
            <a:avLst/>
          </a:prstGeom>
          <a:solidFill>
            <a:srgbClr val="ffcc00">
              <a:alpha val="27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2514600"/>
            <a:ext cx="685800" cy="304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Setup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1138320" cy="4734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905120" y="1143000"/>
            <a:ext cx="6553080" cy="4368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715000" y="1523880"/>
            <a:ext cx="533520" cy="533520"/>
          </a:xfrm>
          <a:prstGeom prst="ellipse">
            <a:avLst/>
          </a:prstGeom>
          <a:solidFill>
            <a:srgbClr val="ffcc00">
              <a:alpha val="27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71800"/>
            <a:ext cx="533520" cy="533520"/>
          </a:xfrm>
          <a:prstGeom prst="ellipse">
            <a:avLst/>
          </a:prstGeom>
          <a:solidFill>
            <a:srgbClr val="ffcc00">
              <a:alpha val="27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828800" y="2209680"/>
            <a:ext cx="2286000" cy="10224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1752480" y="2286000"/>
            <a:ext cx="685800" cy="304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1600200"/>
            <a:ext cx="685800" cy="304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3048120"/>
            <a:ext cx="685800" cy="304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4920" y="265680"/>
            <a:ext cx="72392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380880"/>
            <a:ext cx="723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Setup 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6858000" cy="4279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90720" y="4267080"/>
            <a:ext cx="1981080" cy="381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2133720"/>
            <a:ext cx="1981440" cy="38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5866920" y="1752480"/>
            <a:ext cx="205740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5638320" y="1904760"/>
            <a:ext cx="2057400" cy="533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4495680"/>
            <a:ext cx="685800" cy="304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Register Im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3047760" cy="2313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267080" y="1295280"/>
            <a:ext cx="1828800" cy="1731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495680" y="3505320"/>
            <a:ext cx="2600280" cy="2214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28600" y="2209680"/>
            <a:ext cx="1981080" cy="381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29000" y="4495680"/>
            <a:ext cx="1981080" cy="381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1447920"/>
            <a:ext cx="1981080" cy="38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4724280"/>
            <a:ext cx="685800" cy="304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1752480"/>
            <a:ext cx="685800" cy="304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Register Im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2654280" cy="868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733920" y="1143000"/>
            <a:ext cx="4419360" cy="2825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V="1">
            <a:off x="457200" y="2057040"/>
            <a:ext cx="91440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352680" y="3123720"/>
            <a:ext cx="144792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523880"/>
            <a:ext cx="914400" cy="304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2895480"/>
            <a:ext cx="685800" cy="304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952880" y="4114800"/>
            <a:ext cx="2886120" cy="1487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781680" y="4419720"/>
            <a:ext cx="990720" cy="4572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View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2529000" cy="2666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276720" y="1447920"/>
            <a:ext cx="2411280" cy="958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429000" y="2362320"/>
            <a:ext cx="5226120" cy="3357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V="1">
            <a:off x="2666880" y="5028840"/>
            <a:ext cx="144792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876920"/>
            <a:ext cx="457200" cy="2286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190760" y="1600200"/>
            <a:ext cx="1447560" cy="228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1752480"/>
            <a:ext cx="685800" cy="304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6T21:15:00Z</dcterms:created>
  <dc:creator>Edmund DeJesus</dc:creator>
  <dc:description/>
  <dc:language>en-US</dc:language>
  <cp:lastModifiedBy>Dominik Meier</cp:lastModifiedBy>
  <dcterms:modified xsi:type="dcterms:W3CDTF">2009-11-23T15:10:39Z</dcterms:modified>
  <cp:revision>807</cp:revision>
  <dc:subject/>
  <dc:title>Introduction</dc:title>
</cp:coreProperties>
</file>