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3DBEBB-3EE2-42EB-AA8B-AA8F6B2ADC4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BF1DA84-9600-4BA1-96C6-ECC57EDCC84D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0C07DE7-B563-43E7-9CBC-2641EE36753E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246964F-5668-48D7-8B85-ADC2C286D22F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BF63-4AE1-49F4-B101-0835514F1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658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0CC3-FEBF-4EC8-AF9B-13F6DEF2C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720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658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7200" y="3658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E87E-9F0D-47FD-9051-2F9DB1C35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2960" y="1295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5040" y="1295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658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2960" y="3658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5040" y="3658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A91A-2DFD-47C0-B3C1-7B6F9FFE9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FB77-1028-4CE7-91FA-9705CFCD5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F119-7EBE-465D-B2A0-B8511457C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200" y="1295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EACA-B51D-4E02-B229-AF086C470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4CF0-43AB-4D52-AC81-79FFF3332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126720"/>
            <a:ext cx="731376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ED1B-6430-48F7-8F7C-7C8E2E6AD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200" y="1295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658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7875-F554-438A-9E94-B7A3E3384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20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7200" y="3658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E8B7-450D-4ABF-8D5E-22EE7E51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88920"/>
            <a:ext cx="731376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7200" y="1295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658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7FA6-5965-4125-8957-20DDEFE45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"/>
          <p:cNvSpPr/>
          <p:nvPr/>
        </p:nvSpPr>
        <p:spPr>
          <a:xfrm flipH="1">
            <a:off x="425520" y="6400800"/>
            <a:ext cx="7500960" cy="1440"/>
          </a:xfrm>
          <a:prstGeom prst="line">
            <a:avLst/>
          </a:prstGeom>
          <a:ln w="381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Line 4"/>
          <p:cNvSpPr/>
          <p:nvPr/>
        </p:nvSpPr>
        <p:spPr>
          <a:xfrm flipH="1">
            <a:off x="1370160" y="914400"/>
            <a:ext cx="7318080" cy="1440"/>
          </a:xfrm>
          <a:prstGeom prst="line">
            <a:avLst/>
          </a:prstGeom>
          <a:ln w="381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171840" y="6400440"/>
            <a:ext cx="1903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3a755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81FB-44AD-4058-9E0A-E2DD4B655906}" type="slidenum">
              <a:rPr b="0" lang="en-US" sz="2000" spc="-1" strike="noStrike">
                <a:solidFill>
                  <a:srgbClr val="03a755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8001000" y="6248520"/>
            <a:ext cx="453960" cy="485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8481960" y="6267600"/>
            <a:ext cx="409680" cy="46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380880" y="1295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 Registration of Pre-procedural MR Images and Intra-procedural CT Images for CT-guided Percutaneous Cryoablation of Renal Tum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a Oguro, Haytham Elhawar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 Morrison, Stuart Silverman, Nobuhiko H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Radiology, Brigham and Women’s Hospita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ard Medical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54000" cy="10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62920" y="5419800"/>
            <a:ext cx="91440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113040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5410080"/>
            <a:ext cx="110484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B201-22B4-4914-B737-3EE18BDE3D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3560" y="9619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1 y/o male,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ft RC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609560"/>
            <a:ext cx="8928360" cy="321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391400" y="1612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sed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9240" y="16002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+Contours from M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4483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Rigid,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Non-ri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66680" y="4957920"/>
          <a:ext cx="6172200" cy="1366560"/>
        </p:xfrm>
        <a:graphic>
          <a:graphicData uri="http://schemas.openxmlformats.org/drawingml/2006/table">
            <a:tbl>
              <a:tblPr/>
              <a:tblGrid>
                <a:gridCol w="3124080"/>
                <a:gridCol w="1143000"/>
                <a:gridCol w="1905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SC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D (mm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Rigid+Non-rigi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0.9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1.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Rigi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0.8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3.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0" descr="MR+CT2"/>
          <p:cNvPicPr/>
          <p:nvPr/>
        </p:nvPicPr>
        <p:blipFill>
          <a:blip r:embed="rId1"/>
          <a:srcRect l="0" t="5309" r="0" b="4687"/>
          <a:stretch/>
        </p:blipFill>
        <p:spPr>
          <a:xfrm>
            <a:off x="990720" y="2057400"/>
            <a:ext cx="2854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2808" t="9398" r="6819" b="6821"/>
          <a:stretch/>
        </p:blipFill>
        <p:spPr>
          <a:xfrm>
            <a:off x="5322960" y="2057400"/>
            <a:ext cx="3002040" cy="245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 flipH="1" flipV="1">
            <a:off x="5613120" y="3720960"/>
            <a:ext cx="339480" cy="763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FAA4-8475-4D00-B31D-2599C06E8E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480" y="4419720"/>
          <a:ext cx="8915400" cy="1552320"/>
        </p:xfrm>
        <a:graphic>
          <a:graphicData uri="http://schemas.openxmlformats.org/drawingml/2006/table">
            <a:tbl>
              <a:tblPr/>
              <a:tblGrid>
                <a:gridCol w="3124080"/>
                <a:gridCol w="1371600"/>
                <a:gridCol w="190512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D (m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ime (min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Rigid+Non-rig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.2 ± 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Rig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7 ± 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rcRect l="38281" t="15652" r="12514" b="29837"/>
          <a:stretch/>
        </p:blipFill>
        <p:spPr>
          <a:xfrm>
            <a:off x="4800600" y="990720"/>
            <a:ext cx="385128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41419" t="14569" r="12514" b="28105"/>
          <a:stretch/>
        </p:blipFill>
        <p:spPr>
          <a:xfrm>
            <a:off x="685800" y="990720"/>
            <a:ext cx="3433680" cy="32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6207-4D77-49DF-9E45-346FD6CD8E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8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 registration is more accurate than rigid registration alo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 registration is possibly feasible for practical use in CT-guided renal cryoab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 registration may improve the tumor visualization in CT-guided renal cryoab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3348-2FC8-408C-A883-C66B2D737E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lligent Surgical Instruments Project of METI (Jap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U41RR019703,  R01CA124377, 5U54EB005149 from NI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. Sachio Kuribayashi, Department of Radiology, Keio University School of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4E58-97F6-480D-A3F9-8AC26544CB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work is required to reduce total registration time in order to provide near real-time regis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clinical impact in a prospective man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 the non-rigid registration to other phase of procedure like monito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Rectangle 10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743200" cy="27162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10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2971800" cy="273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52680" y="4419720"/>
            <a:ext cx="1524240" cy="68580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86760" y="398772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D visu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0560" y="398772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ce ball 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D2E6-4A01-4021-B7D1-AB7ED1F3C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utaneous Cryoab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mor necrosis caused by ic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 [Shingleton 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 [Bassignani 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 [Gupta 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ation of ice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55744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FBD4-062F-4F2C-8184-6A71ADBF0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mor marg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not visualized on intra-procedura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ble in pre-procedural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768760"/>
            <a:ext cx="6858000" cy="2489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-guided cryoab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CT2-csae4"/>
          <p:cNvPicPr/>
          <p:nvPr/>
        </p:nvPicPr>
        <p:blipFill>
          <a:blip r:embed="rId1"/>
          <a:srcRect l="46551" t="34372" r="15945" b="28552"/>
          <a:stretch/>
        </p:blipFill>
        <p:spPr>
          <a:xfrm>
            <a:off x="4952880" y="2819520"/>
            <a:ext cx="2360880" cy="19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3837" t="53769" r="20340" b="15956"/>
          <a:stretch/>
        </p:blipFill>
        <p:spPr>
          <a:xfrm>
            <a:off x="1828800" y="2819520"/>
            <a:ext cx="2370240" cy="196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752480" y="4800600"/>
            <a:ext cx="31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-procedural M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800600"/>
            <a:ext cx="281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ra-procedural 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3341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ck of visualization of tumor margins may lead to difficulty in targeting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o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’97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94E4-A50B-414E-B468-40FEB59A08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15200" y="2982960"/>
            <a:ext cx="885960" cy="143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88840" y="2982960"/>
            <a:ext cx="83844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62160" y="2982960"/>
            <a:ext cx="885960" cy="143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Registration (Image fu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id registration [de Senneville 08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 registration [Zollner 0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0292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identify the tumor margins in fused ima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id               Non-rig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982960"/>
            <a:ext cx="885600" cy="143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904200">
            <a:off x="4723920" y="2895120"/>
            <a:ext cx="685800" cy="1524240"/>
          </a:xfrm>
          <a:prstGeom prst="ellipse">
            <a:avLst/>
          </a:prstGeom>
          <a:solidFill>
            <a:srgbClr val="ff6600">
              <a:alpha val="34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44481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63600" y="44578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7450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374508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15200" y="2982960"/>
            <a:ext cx="885960" cy="143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165080" y="44197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0AEF-AB6B-4603-B044-C95801B292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termine if non-rigid registration was more accurate than rigid registration when fusing pre-procedural contrast enhanced MR images to unenhanced intra-procedural CT images from percutaneous renal cryoab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E30A-4946-46DA-91D7-33987B897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3840" y="3809880"/>
            <a:ext cx="7238880" cy="289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s: Su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ospective review of CT-guided percutaneous renal cryoablations (Feb-Apr 0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=11 (Mean age: 66.5 y/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: 1.5 T, contrast enhanced SPGR, 2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: 40-channel MDCT, unenhanced,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n tumor size: 2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30000"/>
          </a:blip>
          <a:srcRect l="28928" t="22267" r="14057" b="14765"/>
          <a:stretch/>
        </p:blipFill>
        <p:spPr>
          <a:xfrm>
            <a:off x="698400" y="3897360"/>
            <a:ext cx="3276720" cy="27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47280" y="38005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11668" t="0" r="7942" b="15337"/>
          <a:stretch/>
        </p:blipFill>
        <p:spPr>
          <a:xfrm>
            <a:off x="4343400" y="3898800"/>
            <a:ext cx="2919240" cy="274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309560" y="3816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61DB-4845-4935-AF30-34A89C72F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98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6676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processing: cropping, m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id: Manual translation and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rigid: mutual information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ine: scaling and s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-Spline: free form de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3D Slicer (http://www.slicer.org/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8840" y="4525920"/>
            <a:ext cx="115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ff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2640" y="4513320"/>
            <a:ext cx="162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-Spl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5105520"/>
            <a:ext cx="685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105520"/>
            <a:ext cx="685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1905120" cy="18716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2994120" y="3886200"/>
            <a:ext cx="2417760" cy="2222280"/>
            <a:chOff x="2994120" y="3886200"/>
            <a:chExt cx="2417760" cy="22222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079800" y="3962160"/>
              <a:ext cx="22669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3111480" y="3898800"/>
              <a:ext cx="60948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441600" y="3886200"/>
              <a:ext cx="60984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72080" y="3886200"/>
              <a:ext cx="60948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102200" y="3886200"/>
              <a:ext cx="60948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06760" y="3886200"/>
              <a:ext cx="60984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711680" y="3886200"/>
              <a:ext cx="609480" cy="22096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94120" y="5968800"/>
              <a:ext cx="188280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111480" y="5626080"/>
              <a:ext cx="188280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225600" y="5244840"/>
              <a:ext cx="188244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325680" y="4863960"/>
              <a:ext cx="188280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27560" y="4483080"/>
              <a:ext cx="188280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529080" y="4101840"/>
              <a:ext cx="188280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43880" y="3809880"/>
            <a:ext cx="2399760" cy="2438640"/>
            <a:chOff x="6743880" y="3809880"/>
            <a:chExt cx="2399760" cy="243864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rcRect l="18187" t="20371" r="18187" b="20371"/>
            <a:stretch/>
          </p:blipFill>
          <p:spPr>
            <a:xfrm>
              <a:off x="6743880" y="3809880"/>
              <a:ext cx="236196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83200" y="3835440"/>
              <a:ext cx="355320" cy="2209680"/>
            </a:xfrm>
            <a:custGeom>
              <a:avLst/>
              <a:gdLst/>
              <a:ahLst/>
              <a:rect l="l" t="t" r="r" b="b"/>
              <a:pathLst>
                <a:path w="224" h="1392">
                  <a:moveTo>
                    <a:pt x="112" y="0"/>
                  </a:moveTo>
                  <a:cubicBezTo>
                    <a:pt x="128" y="44"/>
                    <a:pt x="144" y="88"/>
                    <a:pt x="160" y="144"/>
                  </a:cubicBezTo>
                  <a:cubicBezTo>
                    <a:pt x="176" y="200"/>
                    <a:pt x="200" y="280"/>
                    <a:pt x="208" y="336"/>
                  </a:cubicBezTo>
                  <a:cubicBezTo>
                    <a:pt x="216" y="392"/>
                    <a:pt x="224" y="408"/>
                    <a:pt x="208" y="480"/>
                  </a:cubicBezTo>
                  <a:cubicBezTo>
                    <a:pt x="192" y="552"/>
                    <a:pt x="144" y="672"/>
                    <a:pt x="112" y="768"/>
                  </a:cubicBezTo>
                  <a:cubicBezTo>
                    <a:pt x="80" y="864"/>
                    <a:pt x="32" y="976"/>
                    <a:pt x="16" y="1056"/>
                  </a:cubicBezTo>
                  <a:cubicBezTo>
                    <a:pt x="0" y="1136"/>
                    <a:pt x="8" y="1192"/>
                    <a:pt x="16" y="1248"/>
                  </a:cubicBezTo>
                  <a:cubicBezTo>
                    <a:pt x="24" y="1304"/>
                    <a:pt x="44" y="1348"/>
                    <a:pt x="64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88120" y="3848040"/>
              <a:ext cx="355320" cy="2210040"/>
            </a:xfrm>
            <a:custGeom>
              <a:avLst/>
              <a:gdLst/>
              <a:ahLst/>
              <a:rect l="l" t="t" r="r" b="b"/>
              <a:pathLst>
                <a:path w="224" h="1392">
                  <a:moveTo>
                    <a:pt x="112" y="0"/>
                  </a:moveTo>
                  <a:cubicBezTo>
                    <a:pt x="128" y="44"/>
                    <a:pt x="144" y="88"/>
                    <a:pt x="160" y="144"/>
                  </a:cubicBezTo>
                  <a:cubicBezTo>
                    <a:pt x="176" y="200"/>
                    <a:pt x="200" y="280"/>
                    <a:pt x="208" y="336"/>
                  </a:cubicBezTo>
                  <a:cubicBezTo>
                    <a:pt x="216" y="392"/>
                    <a:pt x="224" y="408"/>
                    <a:pt x="208" y="480"/>
                  </a:cubicBezTo>
                  <a:cubicBezTo>
                    <a:pt x="192" y="552"/>
                    <a:pt x="144" y="672"/>
                    <a:pt x="112" y="768"/>
                  </a:cubicBezTo>
                  <a:cubicBezTo>
                    <a:pt x="80" y="864"/>
                    <a:pt x="32" y="976"/>
                    <a:pt x="16" y="1056"/>
                  </a:cubicBezTo>
                  <a:cubicBezTo>
                    <a:pt x="0" y="1136"/>
                    <a:pt x="8" y="1192"/>
                    <a:pt x="16" y="1248"/>
                  </a:cubicBezTo>
                  <a:cubicBezTo>
                    <a:pt x="24" y="1304"/>
                    <a:pt x="44" y="1348"/>
                    <a:pt x="64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1200" y="3860640"/>
              <a:ext cx="354960" cy="2210040"/>
            </a:xfrm>
            <a:custGeom>
              <a:avLst/>
              <a:gdLst/>
              <a:ahLst/>
              <a:rect l="l" t="t" r="r" b="b"/>
              <a:pathLst>
                <a:path w="224" h="1392">
                  <a:moveTo>
                    <a:pt x="112" y="0"/>
                  </a:moveTo>
                  <a:cubicBezTo>
                    <a:pt x="128" y="44"/>
                    <a:pt x="144" y="88"/>
                    <a:pt x="160" y="144"/>
                  </a:cubicBezTo>
                  <a:cubicBezTo>
                    <a:pt x="176" y="200"/>
                    <a:pt x="200" y="280"/>
                    <a:pt x="208" y="336"/>
                  </a:cubicBezTo>
                  <a:cubicBezTo>
                    <a:pt x="216" y="392"/>
                    <a:pt x="224" y="408"/>
                    <a:pt x="208" y="480"/>
                  </a:cubicBezTo>
                  <a:cubicBezTo>
                    <a:pt x="192" y="552"/>
                    <a:pt x="144" y="672"/>
                    <a:pt x="112" y="768"/>
                  </a:cubicBezTo>
                  <a:cubicBezTo>
                    <a:pt x="80" y="864"/>
                    <a:pt x="32" y="976"/>
                    <a:pt x="16" y="1056"/>
                  </a:cubicBezTo>
                  <a:cubicBezTo>
                    <a:pt x="0" y="1136"/>
                    <a:pt x="8" y="1192"/>
                    <a:pt x="16" y="1248"/>
                  </a:cubicBezTo>
                  <a:cubicBezTo>
                    <a:pt x="24" y="1304"/>
                    <a:pt x="44" y="1348"/>
                    <a:pt x="64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97680" y="4000680"/>
              <a:ext cx="2057040" cy="16488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48"/>
                  </a:moveTo>
                  <a:cubicBezTo>
                    <a:pt x="76" y="24"/>
                    <a:pt x="152" y="0"/>
                    <a:pt x="240" y="0"/>
                  </a:cubicBezTo>
                  <a:cubicBezTo>
                    <a:pt x="328" y="0"/>
                    <a:pt x="440" y="32"/>
                    <a:pt x="528" y="48"/>
                  </a:cubicBezTo>
                  <a:cubicBezTo>
                    <a:pt x="616" y="64"/>
                    <a:pt x="688" y="88"/>
                    <a:pt x="768" y="96"/>
                  </a:cubicBezTo>
                  <a:cubicBezTo>
                    <a:pt x="848" y="104"/>
                    <a:pt x="920" y="104"/>
                    <a:pt x="1008" y="96"/>
                  </a:cubicBezTo>
                  <a:cubicBezTo>
                    <a:pt x="1096" y="88"/>
                    <a:pt x="1196" y="68"/>
                    <a:pt x="1296" y="48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70800" y="3936960"/>
              <a:ext cx="545760" cy="2209680"/>
            </a:xfrm>
            <a:custGeom>
              <a:avLst/>
              <a:gdLst/>
              <a:ahLst/>
              <a:rect l="l" t="t" r="r" b="b"/>
              <a:pathLst>
                <a:path w="344" h="1392">
                  <a:moveTo>
                    <a:pt x="192" y="0"/>
                  </a:moveTo>
                  <a:cubicBezTo>
                    <a:pt x="260" y="92"/>
                    <a:pt x="328" y="184"/>
                    <a:pt x="336" y="288"/>
                  </a:cubicBezTo>
                  <a:cubicBezTo>
                    <a:pt x="344" y="392"/>
                    <a:pt x="280" y="528"/>
                    <a:pt x="240" y="624"/>
                  </a:cubicBezTo>
                  <a:cubicBezTo>
                    <a:pt x="200" y="720"/>
                    <a:pt x="136" y="776"/>
                    <a:pt x="96" y="864"/>
                  </a:cubicBezTo>
                  <a:cubicBezTo>
                    <a:pt x="56" y="952"/>
                    <a:pt x="0" y="1064"/>
                    <a:pt x="0" y="1152"/>
                  </a:cubicBezTo>
                  <a:cubicBezTo>
                    <a:pt x="0" y="1240"/>
                    <a:pt x="48" y="1316"/>
                    <a:pt x="96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40680" y="4000680"/>
              <a:ext cx="545760" cy="2209680"/>
            </a:xfrm>
            <a:custGeom>
              <a:avLst/>
              <a:gdLst/>
              <a:ahLst/>
              <a:rect l="l" t="t" r="r" b="b"/>
              <a:pathLst>
                <a:path w="344" h="1392">
                  <a:moveTo>
                    <a:pt x="192" y="0"/>
                  </a:moveTo>
                  <a:cubicBezTo>
                    <a:pt x="260" y="92"/>
                    <a:pt x="328" y="184"/>
                    <a:pt x="336" y="288"/>
                  </a:cubicBezTo>
                  <a:cubicBezTo>
                    <a:pt x="344" y="392"/>
                    <a:pt x="280" y="528"/>
                    <a:pt x="240" y="624"/>
                  </a:cubicBezTo>
                  <a:cubicBezTo>
                    <a:pt x="200" y="720"/>
                    <a:pt x="136" y="776"/>
                    <a:pt x="96" y="864"/>
                  </a:cubicBezTo>
                  <a:cubicBezTo>
                    <a:pt x="56" y="952"/>
                    <a:pt x="0" y="1064"/>
                    <a:pt x="0" y="1152"/>
                  </a:cubicBezTo>
                  <a:cubicBezTo>
                    <a:pt x="0" y="1240"/>
                    <a:pt x="48" y="1316"/>
                    <a:pt x="96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97600" y="3936960"/>
              <a:ext cx="545760" cy="2209680"/>
            </a:xfrm>
            <a:custGeom>
              <a:avLst/>
              <a:gdLst/>
              <a:ahLst/>
              <a:rect l="l" t="t" r="r" b="b"/>
              <a:pathLst>
                <a:path w="344" h="1392">
                  <a:moveTo>
                    <a:pt x="192" y="0"/>
                  </a:moveTo>
                  <a:cubicBezTo>
                    <a:pt x="260" y="92"/>
                    <a:pt x="328" y="184"/>
                    <a:pt x="336" y="288"/>
                  </a:cubicBezTo>
                  <a:cubicBezTo>
                    <a:pt x="344" y="392"/>
                    <a:pt x="280" y="528"/>
                    <a:pt x="240" y="624"/>
                  </a:cubicBezTo>
                  <a:cubicBezTo>
                    <a:pt x="200" y="720"/>
                    <a:pt x="136" y="776"/>
                    <a:pt x="96" y="864"/>
                  </a:cubicBezTo>
                  <a:cubicBezTo>
                    <a:pt x="56" y="952"/>
                    <a:pt x="0" y="1064"/>
                    <a:pt x="0" y="1152"/>
                  </a:cubicBezTo>
                  <a:cubicBezTo>
                    <a:pt x="0" y="1240"/>
                    <a:pt x="48" y="1316"/>
                    <a:pt x="96" y="13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86600" y="4368960"/>
              <a:ext cx="2057040" cy="16488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48"/>
                  </a:moveTo>
                  <a:cubicBezTo>
                    <a:pt x="76" y="24"/>
                    <a:pt x="152" y="0"/>
                    <a:pt x="240" y="0"/>
                  </a:cubicBezTo>
                  <a:cubicBezTo>
                    <a:pt x="328" y="0"/>
                    <a:pt x="440" y="32"/>
                    <a:pt x="528" y="48"/>
                  </a:cubicBezTo>
                  <a:cubicBezTo>
                    <a:pt x="616" y="64"/>
                    <a:pt x="688" y="88"/>
                    <a:pt x="768" y="96"/>
                  </a:cubicBezTo>
                  <a:cubicBezTo>
                    <a:pt x="848" y="104"/>
                    <a:pt x="920" y="104"/>
                    <a:pt x="1008" y="96"/>
                  </a:cubicBezTo>
                  <a:cubicBezTo>
                    <a:pt x="1096" y="88"/>
                    <a:pt x="1196" y="68"/>
                    <a:pt x="1296" y="48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59520" y="4737240"/>
              <a:ext cx="2057040" cy="164880"/>
            </a:xfrm>
            <a:custGeom>
              <a:avLst/>
              <a:gdLst/>
              <a:ahLst/>
              <a:rect l="l" t="t" r="r" b="b"/>
              <a:pathLst>
                <a:path w="1296" h="104">
                  <a:moveTo>
                    <a:pt x="0" y="48"/>
                  </a:moveTo>
                  <a:cubicBezTo>
                    <a:pt x="76" y="24"/>
                    <a:pt x="152" y="0"/>
                    <a:pt x="240" y="0"/>
                  </a:cubicBezTo>
                  <a:cubicBezTo>
                    <a:pt x="328" y="0"/>
                    <a:pt x="440" y="32"/>
                    <a:pt x="528" y="48"/>
                  </a:cubicBezTo>
                  <a:cubicBezTo>
                    <a:pt x="616" y="64"/>
                    <a:pt x="688" y="88"/>
                    <a:pt x="768" y="96"/>
                  </a:cubicBezTo>
                  <a:cubicBezTo>
                    <a:pt x="848" y="104"/>
                    <a:pt x="920" y="104"/>
                    <a:pt x="1008" y="96"/>
                  </a:cubicBezTo>
                  <a:cubicBezTo>
                    <a:pt x="1096" y="88"/>
                    <a:pt x="1196" y="68"/>
                    <a:pt x="1296" y="48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19840" y="5854680"/>
              <a:ext cx="1980720" cy="241200"/>
            </a:xfrm>
            <a:custGeom>
              <a:avLst/>
              <a:gdLst/>
              <a:ahLst/>
              <a:rect l="l" t="t" r="r" b="b"/>
              <a:pathLst>
                <a:path w="1248" h="152">
                  <a:moveTo>
                    <a:pt x="0" y="104"/>
                  </a:moveTo>
                  <a:cubicBezTo>
                    <a:pt x="72" y="60"/>
                    <a:pt x="144" y="16"/>
                    <a:pt x="240" y="8"/>
                  </a:cubicBezTo>
                  <a:cubicBezTo>
                    <a:pt x="336" y="0"/>
                    <a:pt x="464" y="32"/>
                    <a:pt x="576" y="56"/>
                  </a:cubicBezTo>
                  <a:cubicBezTo>
                    <a:pt x="688" y="80"/>
                    <a:pt x="800" y="152"/>
                    <a:pt x="912" y="152"/>
                  </a:cubicBezTo>
                  <a:cubicBezTo>
                    <a:pt x="1024" y="152"/>
                    <a:pt x="1136" y="104"/>
                    <a:pt x="1248" y="56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43880" y="5486400"/>
              <a:ext cx="1981080" cy="241200"/>
            </a:xfrm>
            <a:custGeom>
              <a:avLst/>
              <a:gdLst/>
              <a:ahLst/>
              <a:rect l="l" t="t" r="r" b="b"/>
              <a:pathLst>
                <a:path w="1248" h="152">
                  <a:moveTo>
                    <a:pt x="0" y="104"/>
                  </a:moveTo>
                  <a:cubicBezTo>
                    <a:pt x="72" y="60"/>
                    <a:pt x="144" y="16"/>
                    <a:pt x="240" y="8"/>
                  </a:cubicBezTo>
                  <a:cubicBezTo>
                    <a:pt x="336" y="0"/>
                    <a:pt x="464" y="32"/>
                    <a:pt x="576" y="56"/>
                  </a:cubicBezTo>
                  <a:cubicBezTo>
                    <a:pt x="688" y="80"/>
                    <a:pt x="800" y="152"/>
                    <a:pt x="912" y="152"/>
                  </a:cubicBezTo>
                  <a:cubicBezTo>
                    <a:pt x="1024" y="152"/>
                    <a:pt x="1136" y="104"/>
                    <a:pt x="1248" y="56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9840" y="5092560"/>
              <a:ext cx="1980720" cy="241560"/>
            </a:xfrm>
            <a:custGeom>
              <a:avLst/>
              <a:gdLst/>
              <a:ahLst/>
              <a:rect l="l" t="t" r="r" b="b"/>
              <a:pathLst>
                <a:path w="1248" h="152">
                  <a:moveTo>
                    <a:pt x="0" y="104"/>
                  </a:moveTo>
                  <a:cubicBezTo>
                    <a:pt x="72" y="60"/>
                    <a:pt x="144" y="16"/>
                    <a:pt x="240" y="8"/>
                  </a:cubicBezTo>
                  <a:cubicBezTo>
                    <a:pt x="336" y="0"/>
                    <a:pt x="464" y="32"/>
                    <a:pt x="576" y="56"/>
                  </a:cubicBezTo>
                  <a:cubicBezTo>
                    <a:pt x="688" y="80"/>
                    <a:pt x="800" y="152"/>
                    <a:pt x="912" y="152"/>
                  </a:cubicBezTo>
                  <a:cubicBezTo>
                    <a:pt x="1024" y="152"/>
                    <a:pt x="1136" y="104"/>
                    <a:pt x="1248" y="56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3756-995A-43EB-A3DB-611209BAC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8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ce Similarity Coefficient (D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ect overla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overlap = 0 [Dice ’4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usdorff Distance (H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. mismatch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overlay of con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ect match = 0m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’s t-test: Rigid vs. Non-rig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: Rigid, [Rigid+Non-rigi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1066680"/>
            <a:ext cx="24382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HD-figure"/>
          <p:cNvPicPr/>
          <p:nvPr/>
        </p:nvPicPr>
        <p:blipFill>
          <a:blip r:embed="rId1"/>
          <a:stretch/>
        </p:blipFill>
        <p:spPr>
          <a:xfrm>
            <a:off x="6477120" y="3352680"/>
            <a:ext cx="2438280" cy="2038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5960" y="10638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2080" y="33242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56160" y="25113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5960" y="25113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38880" y="1335240"/>
            <a:ext cx="1309680" cy="173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53360" y="1216080"/>
            <a:ext cx="996840" cy="1923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7021440" y="4363920"/>
            <a:ext cx="3571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445E-F2F0-4F24-8934-836257208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1ff"/>
            </a:gs>
            <a:gs pos="100000">
              <a:srgbClr val="f3f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6720"/>
            <a:ext cx="731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se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560" y="96192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3 y/o female, left RC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609560"/>
            <a:ext cx="8928360" cy="321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9" descr="figure1-fused-image2"/>
          <p:cNvPicPr/>
          <p:nvPr/>
        </p:nvPicPr>
        <p:blipFill>
          <a:blip r:embed="rId1"/>
          <a:stretch/>
        </p:blipFill>
        <p:spPr>
          <a:xfrm>
            <a:off x="914400" y="2057400"/>
            <a:ext cx="2979720" cy="24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1391400" y="1612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sed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9240" y="16002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+Contours from M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257800" y="2057400"/>
            <a:ext cx="3262320" cy="2452680"/>
            <a:chOff x="5257800" y="2057400"/>
            <a:chExt cx="3262320" cy="245268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rcRect l="14173" t="17724" r="13931" b="17009"/>
            <a:stretch/>
          </p:blipFill>
          <p:spPr>
            <a:xfrm>
              <a:off x="5257800" y="2057400"/>
              <a:ext cx="3262320" cy="2452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481800" y="3198960"/>
              <a:ext cx="345960" cy="1713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84800" y="3301920"/>
              <a:ext cx="297000" cy="2062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91160" y="3440160"/>
              <a:ext cx="147600" cy="2728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654960" y="448308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Rigid,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Non-rig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4957920"/>
          <a:ext cx="6172200" cy="1366560"/>
        </p:xfrm>
        <a:graphic>
          <a:graphicData uri="http://schemas.openxmlformats.org/drawingml/2006/table">
            <a:tbl>
              <a:tblPr/>
              <a:tblGrid>
                <a:gridCol w="3124080"/>
                <a:gridCol w="1143000"/>
                <a:gridCol w="1905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SC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D (mm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Rigid+Non-rigi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0.9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ff3300"/>
                          </a:solidFill>
                          <a:latin typeface="Arial"/>
                          <a:ea typeface="ＭＳ Ｐゴシック"/>
                        </a:rPr>
                        <a:t>0.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Rigi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0.88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3333cc"/>
                          </a:solidFill>
                          <a:latin typeface="Arial"/>
                          <a:ea typeface="ＭＳ Ｐゴシック"/>
                        </a:rPr>
                        <a:t>3.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C431-B913-43CD-8378-7D054AEB51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ta Oguro</cp:lastModifiedBy>
  <dcterms:modified xsi:type="dcterms:W3CDTF">2010-03-19T13:56:02Z</dcterms:modified>
  <cp:revision>2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