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695-4190-4AF6-8E53-E7808893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5F-0393-4755-9ABE-398E28E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2D6-85FE-4484-B9E0-A487BD2C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6C5-F7B5-4D43-BEE6-5AF417B9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24D-657A-40A0-A8AC-C7E57432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A6B-0415-4374-80A8-407951D8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087-57BD-45FD-B9B5-711B62B4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8B4-E5B1-4D5B-AF7D-163954CC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85D-E3E5-4D54-9EEC-4376336F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A92-35AA-4D8D-9A39-C56755C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EC6-22D9-4233-97E2-0CB2640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3D6-FE35-418C-BAF4-575FD13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o Gerig, UNC,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67C-3BBF-42D0-8019-C739C449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89352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600200"/>
            <a:ext cx="861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AMIC DTI Training Too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uido Geri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el Prastawa, Tim Terriberry, Matthieu Jomi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C Chapel Hi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structions MriWatch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wnload tool and install (PC Windows), Windows self-extractable tool: www.ia.unc.edu/dev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ad set of volumetric files, or mark files in file browser and drag into workspac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ported formats: ITK input library: Analyze, gipl, Meta-Dico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lyph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Interactive Display of Tenso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b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Streamline Tracking starting from seed poi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nectivit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Tensor-Warped Distance Map (Riemannian flow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iWatch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Simultaneous View of multiple MRI/DTI channels (download at www.ia.unc.edu/dev/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art tool (PC Window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ad tensor data (vtk forma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e x,y,z orthogonal planes to visualize FA sl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e minimum FA values to display glyp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just maximum size of glyp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ect ROI (press “I” and adjust box dimensio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nectivity of White Matt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diffusivity in 3D tensor fiel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agate diffusion originating at user-selected seed poi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pl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tegrated “length*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long connected paths at each vox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asurement “connectivity strength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81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26708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576"/>
                </a:moveTo>
                <a:cubicBezTo>
                  <a:pt x="4" y="492"/>
                  <a:pt x="8" y="408"/>
                  <a:pt x="48" y="336"/>
                </a:cubicBezTo>
                <a:cubicBezTo>
                  <a:pt x="88" y="264"/>
                  <a:pt x="192" y="192"/>
                  <a:pt x="240" y="144"/>
                </a:cubicBezTo>
                <a:cubicBezTo>
                  <a:pt x="288" y="96"/>
                  <a:pt x="296" y="72"/>
                  <a:pt x="336" y="48"/>
                </a:cubicBezTo>
                <a:cubicBezTo>
                  <a:pt x="376" y="24"/>
                  <a:pt x="432" y="0"/>
                  <a:pt x="480" y="0"/>
                </a:cubicBezTo>
                <a:cubicBezTo>
                  <a:pt x="528" y="0"/>
                  <a:pt x="560" y="16"/>
                  <a:pt x="624" y="48"/>
                </a:cubicBezTo>
                <a:cubicBezTo>
                  <a:pt x="688" y="80"/>
                  <a:pt x="792" y="144"/>
                  <a:pt x="864" y="192"/>
                </a:cubicBezTo>
                <a:cubicBezTo>
                  <a:pt x="936" y="240"/>
                  <a:pt x="996" y="288"/>
                  <a:pt x="1056" y="33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114800"/>
            <a:ext cx="3049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nsor Represent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37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114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ensor-Warped Distance Map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O’Donnell, MICCAI’0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14440" y="1844640"/>
            <a:ext cx="8400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nectivity I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1828800"/>
            <a:ext cx="84013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nectivity II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49280" y="1779480"/>
            <a:ext cx="83898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riWatcher (Matthieu Jomier, UNC, www.ia.unc.edu/dev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4771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2:23:12Z</dcterms:created>
  <dc:creator>gerig</dc:creator>
  <dc:description/>
  <dc:language>en-US</dc:language>
  <cp:lastModifiedBy>gerig</cp:lastModifiedBy>
  <dcterms:modified xsi:type="dcterms:W3CDTF">2005-05-18T16:29:37Z</dcterms:modified>
  <cp:revision>236</cp:revision>
  <dc:subject/>
  <dc:title>PowerPoint Presentation</dc:title>
</cp:coreProperties>
</file>