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A86-57BB-432F-8738-883BD9BB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F6E-43C8-4CAD-A29C-06A86987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B52-05BA-4ABA-B5A3-DFED2EB7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33A-63C7-43A6-82A8-8AF7C33F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E28-2278-44BE-BEBB-61D7EA6B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40A-4945-4C3B-AE2A-0661C641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C1D-F984-4A4F-B78B-70EBF2F8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7CE-0380-4F00-AEDB-1F6D92D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963-DABA-45EA-9C07-7DE7AB7A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F68-7691-47E2-98AD-5CDF33D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D84-C6B3-4898-95C9-84822EB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E3E-E11A-4E2F-9FFA-21ADA8F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o Gerig, UNC,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769C-F3F3-47D2-A72F-DC5BAD0D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89352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600200"/>
            <a:ext cx="861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AMIC DTI Training Too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uido Geri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cel Prastawa, Tim Terriberry, Matthieu Jomi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C Chapel Hil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structions MriWatche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wnload tool and install (PC Windows), Windows self-extractable tool: www.ia.unc.edu/dev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ad set of volumetric files, or mark files in file browser and drag into workspac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ported formats: ITK input library: Analyze, gipl, Meta-Dico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lyph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Interactive Display of Tenso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b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Streamline Tracking starting from seed poi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nectivit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Tensor-Warped Distance Map (Riemannian flow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riWatch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Simultaneous View of multiple MRI/DTI channels (download at www.ia.unc.edu/dev/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art tool (PC Window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ad tensor data (vtk format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e x,y,z orthogonal planes to visualize FA sl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e minimum FA values to display glyp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just maximum size of glyp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lect ROI (press “I” and adjust box dimensio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nectivity of White Matte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diffusivity in 3D tensor fiel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agate diffusion originating at user-selected seed poi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pl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tegrated “length*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long connected paths at each vox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asurement “connectivity strength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81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26708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576"/>
                </a:moveTo>
                <a:cubicBezTo>
                  <a:pt x="4" y="492"/>
                  <a:pt x="8" y="408"/>
                  <a:pt x="48" y="336"/>
                </a:cubicBezTo>
                <a:cubicBezTo>
                  <a:pt x="88" y="264"/>
                  <a:pt x="192" y="192"/>
                  <a:pt x="240" y="144"/>
                </a:cubicBezTo>
                <a:cubicBezTo>
                  <a:pt x="288" y="96"/>
                  <a:pt x="296" y="72"/>
                  <a:pt x="336" y="48"/>
                </a:cubicBezTo>
                <a:cubicBezTo>
                  <a:pt x="376" y="24"/>
                  <a:pt x="432" y="0"/>
                  <a:pt x="480" y="0"/>
                </a:cubicBezTo>
                <a:cubicBezTo>
                  <a:pt x="528" y="0"/>
                  <a:pt x="560" y="16"/>
                  <a:pt x="624" y="48"/>
                </a:cubicBezTo>
                <a:cubicBezTo>
                  <a:pt x="688" y="80"/>
                  <a:pt x="792" y="144"/>
                  <a:pt x="864" y="192"/>
                </a:cubicBezTo>
                <a:cubicBezTo>
                  <a:pt x="936" y="240"/>
                  <a:pt x="996" y="288"/>
                  <a:pt x="1056" y="33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114800"/>
            <a:ext cx="30492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ensor Represent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37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114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ensor-Warped Distance Map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O’Donnell, MICCAI’0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14440" y="1844640"/>
            <a:ext cx="84009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nectivity II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880" y="1828800"/>
            <a:ext cx="84013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nectivity III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49280" y="1779480"/>
            <a:ext cx="83898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riWatcher (Matthieu Jomier, UNC, www.ia.unc.edu/dev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4771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2:23:12Z</dcterms:created>
  <dc:creator>gerig</dc:creator>
  <dc:description/>
  <dc:language>en-US</dc:language>
  <cp:lastModifiedBy>gerig</cp:lastModifiedBy>
  <dcterms:modified xsi:type="dcterms:W3CDTF">2005-05-18T16:37:02Z</dcterms:modified>
  <cp:revision>236</cp:revision>
  <dc:subject/>
  <dc:title>PowerPoint Presentation</dc:title>
</cp:coreProperties>
</file>