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7AE8-AABA-45D3-AE5D-3969151C8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5DD3-1B24-43C8-A4AB-095CBDE9C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8DBB-EA8A-4618-B7F9-43A428746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B823-A20D-468C-94F6-11B01EE1E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03E6-496F-4C47-B63D-8962154BF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78E9-F521-4E08-8BA6-3944CB731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57FD-D46E-44EA-BBA7-19FF308E6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7376-C04D-42C5-9B77-0EC5F2FA8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B9AD-945F-4FEA-879C-FF279713D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DC82-6BA9-493B-9601-65FE5CDD7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0A2C-090D-4D71-A091-73B7CABC9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7536-1B7D-4114-BACE-647184AD7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22860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D8B2-BF37-46BE-B0D0-DED875B89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792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tochastic Tractograph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6248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IC AHM, Jan 7-11, 2008 – Salt Lake City, U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038480"/>
            <a:ext cx="7086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 Ng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NL, BW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: Corpus Callosum Forceps Maj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4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43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: Corpus Callosum Forceps Mino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4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924680" cy="44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esults: Fornix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4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esults: Uncinat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esults: Internal Capsu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: Volum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5000" t="1611" r="5000" b="0"/>
          <a:stretch/>
        </p:blipFill>
        <p:spPr>
          <a:xfrm>
            <a:off x="609480" y="1447920"/>
            <a:ext cx="784872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: FA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6099" t="0" r="7316" b="0"/>
          <a:stretch/>
        </p:blipFill>
        <p:spPr>
          <a:xfrm>
            <a:off x="228600" y="1371600"/>
            <a:ext cx="845820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: Mo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7567" t="0" r="7027" b="0"/>
          <a:stretch/>
        </p:blipFill>
        <p:spPr>
          <a:xfrm>
            <a:off x="609480" y="1371600"/>
            <a:ext cx="78487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: Trac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7894" t="0" r="8771" b="2802"/>
          <a:stretch/>
        </p:blipFill>
        <p:spPr>
          <a:xfrm>
            <a:off x="609480" y="13716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  Relatively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ng multiple fi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white matter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tochastic Tractograph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758600">
            <a:off x="457200" y="2971440"/>
            <a:ext cx="2362320" cy="43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638000">
            <a:off x="1447560" y="2819160"/>
            <a:ext cx="1276200" cy="304560"/>
          </a:xfrm>
          <a:prstGeom prst="rightArrow">
            <a:avLst>
              <a:gd name="adj1" fmla="val 50000"/>
              <a:gd name="adj2" fmla="val 1047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803800">
            <a:off x="3555720" y="3440160"/>
            <a:ext cx="1569960" cy="258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889000">
            <a:off x="4157280" y="3674880"/>
            <a:ext cx="847800" cy="304920"/>
          </a:xfrm>
          <a:prstGeom prst="rightArrow">
            <a:avLst>
              <a:gd name="adj1" fmla="val 50000"/>
              <a:gd name="adj2" fmla="val 695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9177200">
            <a:off x="5846400" y="3635280"/>
            <a:ext cx="22050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9122600">
            <a:off x="6718320" y="332532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286000"/>
            <a:ext cx="8305920" cy="2666880"/>
          </a:xfrm>
          <a:custGeom>
            <a:avLst/>
            <a:gdLst/>
            <a:ahLst/>
            <a:rect l="l" t="t" r="r" b="b"/>
            <a:pathLst>
              <a:path w="5232" h="1680">
                <a:moveTo>
                  <a:pt x="0" y="1104"/>
                </a:moveTo>
                <a:lnTo>
                  <a:pt x="1872" y="0"/>
                </a:lnTo>
                <a:lnTo>
                  <a:pt x="3360" y="1680"/>
                </a:lnTo>
                <a:lnTo>
                  <a:pt x="5232" y="9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0"/>
            <a:ext cx="7772400" cy="3048120"/>
          </a:xfrm>
          <a:custGeom>
            <a:avLst/>
            <a:gdLst/>
            <a:ahLst/>
            <a:rect l="l" t="t" r="r" b="b"/>
            <a:pathLst>
              <a:path w="4896" h="1920">
                <a:moveTo>
                  <a:pt x="0" y="1104"/>
                </a:moveTo>
                <a:lnTo>
                  <a:pt x="2064" y="192"/>
                </a:lnTo>
                <a:lnTo>
                  <a:pt x="3024" y="1920"/>
                </a:lnTo>
                <a:lnTo>
                  <a:pt x="4896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981080"/>
            <a:ext cx="8381880" cy="2743200"/>
          </a:xfrm>
          <a:custGeom>
            <a:avLst/>
            <a:gdLst/>
            <a:ahLst/>
            <a:rect l="l" t="t" r="r" b="b"/>
            <a:pathLst>
              <a:path w="5280" h="1728">
                <a:moveTo>
                  <a:pt x="0" y="1296"/>
                </a:moveTo>
                <a:lnTo>
                  <a:pt x="1728" y="0"/>
                </a:lnTo>
                <a:lnTo>
                  <a:pt x="3696" y="1728"/>
                </a:lnTo>
                <a:lnTo>
                  <a:pt x="5280" y="48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0"/>
            <a:ext cx="8305920" cy="2666880"/>
          </a:xfrm>
          <a:custGeom>
            <a:avLst/>
            <a:gdLst/>
            <a:ahLst/>
            <a:rect l="l" t="t" r="r" b="b"/>
            <a:pathLst>
              <a:path w="5232" h="1680">
                <a:moveTo>
                  <a:pt x="0" y="1104"/>
                </a:moveTo>
                <a:lnTo>
                  <a:pt x="1872" y="0"/>
                </a:lnTo>
                <a:lnTo>
                  <a:pt x="3360" y="1680"/>
                </a:lnTo>
                <a:lnTo>
                  <a:pt x="5232" y="9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4876560"/>
            <a:ext cx="3429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I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ing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758600">
            <a:off x="456840" y="2590920"/>
            <a:ext cx="236232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803800">
            <a:off x="3573000" y="3056040"/>
            <a:ext cx="1569960" cy="1096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9177200">
            <a:off x="5827320" y="3204720"/>
            <a:ext cx="2205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put parameter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dy Current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rocessing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matter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ed (&gt;0.15) FA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lgorithm Parameter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Length: 2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Size: 0.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t Samples/ROI voxel: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bending: 90 degrees per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ing criteria: Leaving white matter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User interac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in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r3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d vtk outpu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nnectivity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in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r3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2186" r="74141" b="40230"/>
          <a:stretch/>
        </p:blipFill>
        <p:spPr>
          <a:xfrm>
            <a:off x="5638680" y="1447920"/>
            <a:ext cx="27860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ihood Cache Grows,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thre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Core AMD Opteron(tm) Processor 880 x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05 GB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lgorithm execution time per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on ROI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apsule: ~30 m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cer 3 Volumetric Rendering of Connectivity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increased Bundle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Physical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esults: Cingulum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4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44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: Cingulum Hippocampal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4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44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2:24:33Z</dcterms:created>
  <dc:creator>NAMIC</dc:creator>
  <dc:description/>
  <dc:language>en-US</dc:language>
  <cp:lastModifiedBy>t</cp:lastModifiedBy>
  <dcterms:modified xsi:type="dcterms:W3CDTF">2008-01-08T21:14:39Z</dcterms:modified>
  <cp:revision>672</cp:revision>
  <dc:subject/>
  <dc:title>National Alliance for Medical Image Computing: Namic</dc:title>
</cp:coreProperties>
</file>