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9.png" ContentType="image/png"/>
  <Override PartName="/ppt/media/image8.png" ContentType="image/png"/>
  <Override PartName="/ppt/media/image12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4D54-21F4-42F5-8139-30C974E3F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A0EF-6EFC-4DB4-994E-0845F7456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1E0C-2153-4F42-98CF-023D4B739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1716-5907-42C9-B7EB-A905BAF62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0F39-9268-44C4-AA2D-6919CBB64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7F0A-B750-4122-ADAF-898DFD97A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2F7F-0689-495F-B85C-F4C81A51D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9144-0AC6-4D90-84A6-91231B0E0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F5D8-CC81-4D6A-A954-5A0049FF6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819E-B01B-4969-B054-B44130E34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DAD4-B6AD-4229-9E9E-E218CDEED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0A45-A94C-48C6-AA8E-7F7861CB8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DC9DD-5C6B-4167-B7E9-1855A110480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6E605-FF17-478F-BE76-4BDB6A7EC2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WMeshVisu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Mesh Visualization Tool for Shape Analy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Ipek Oguz - UN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uido Gerig – UN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bastien Barre - Ki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tin Styner – UN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6019920" y="457200"/>
          <a:ext cx="2514600" cy="85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9920" y="457200"/>
                    <a:ext cx="2514600" cy="8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304920" y="304920"/>
            <a:ext cx="3886200" cy="1224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533520" y="4191120"/>
            <a:ext cx="2209680" cy="18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057400" y="1386000"/>
            <a:ext cx="7010280" cy="539568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laying Datas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191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ualization of different datasets with different parame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CCF7-C3CB-481D-8964-B6AD06C4DFED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7B66D3-E95A-4CC0-BCC4-5F472EE44D5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T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WWidg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57200" y="4441680"/>
            <a:ext cx="2438280" cy="15559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048120" y="4419720"/>
            <a:ext cx="2438280" cy="15667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5638680" y="4419720"/>
            <a:ext cx="3353040" cy="1579320"/>
          </a:xfrm>
          <a:prstGeom prst="rect">
            <a:avLst/>
          </a:prstGeom>
          <a:ln w="0">
            <a:noFill/>
          </a:ln>
        </p:spPr>
      </p:pic>
      <p:grpSp>
        <p:nvGrpSpPr>
          <p:cNvPr id="79" name=""/>
          <p:cNvGrpSpPr/>
          <p:nvPr/>
        </p:nvGrpSpPr>
        <p:grpSpPr>
          <a:xfrm>
            <a:off x="3652920" y="1636560"/>
            <a:ext cx="5414760" cy="1336680"/>
            <a:chOff x="3652920" y="1636560"/>
            <a:chExt cx="5414760" cy="1336680"/>
          </a:xfrm>
        </p:grpSpPr>
        <p:sp>
          <p:nvSpPr>
            <p:cNvPr id="80" name=""/>
            <p:cNvSpPr/>
            <p:nvPr/>
          </p:nvSpPr>
          <p:spPr>
            <a:xfrm>
              <a:off x="5562720" y="1828800"/>
              <a:ext cx="1447560" cy="10666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000000"/>
                  </a:solidFill>
                  <a:latin typeface="Arial"/>
                </a:rPr>
                <a:t>KWMeshVis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796200" y="1636560"/>
              <a:ext cx="73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000000"/>
                  </a:solidFill>
                  <a:latin typeface="Arial"/>
                </a:rPr>
                <a:t>Mes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52920" y="2604960"/>
              <a:ext cx="114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24280" y="1828800"/>
              <a:ext cx="7621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V="1">
              <a:off x="4876920" y="2514240"/>
              <a:ext cx="53316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86600" y="23623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6" name="" descr=""/>
            <p:cNvPicPr/>
            <p:nvPr/>
          </p:nvPicPr>
          <p:blipFill>
            <a:blip r:embed="rId4"/>
            <a:stretch/>
          </p:blipFill>
          <p:spPr>
            <a:xfrm>
              <a:off x="7543800" y="1722600"/>
              <a:ext cx="1523880" cy="1172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B8B8-229B-4EA7-AE98-48EEAA96F80B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0D4210-67D0-43F5-A9D2-AA7077AD774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Arial"/>
              </a:rPr>
              <a:t>Overlaying Datas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1600200"/>
            <a:ext cx="78487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8440" y="28440"/>
          <a:ext cx="9739440" cy="700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40" y="28440"/>
                    <a:ext cx="9739440" cy="700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054D-F6B5-4288-B54D-CCB8DEF90BA2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EBF656-52E8-48A3-BA91-FFCF0942FAD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848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sualization of datasets on surf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ful for various data analysis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rk is part of the National Alliance for Medical Image Computing (NAMIC), funded by the National Institutes of Health through the NIH Roadmap for Medical Research, Grant U54 EB005149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tion on the National Centers for Biomedical Computing can be obtained from http://nihroadmap.nih.gov/bioinformatic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6248520" y="6019920"/>
          <a:ext cx="1774800" cy="55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48520" y="6019920"/>
                    <a:ext cx="1774800" cy="55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418C-AED4-4875-BB7D-C29C1805AF64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C5D6D2-B3B1-4DEB-82F9-367B0EFC3DE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ous data on surfa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istical values, measured quantities, local shape feature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litative evaluation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vis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ic tool for visualization of datasets on surfa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63FA-CB0F-4B91-99CB-F19EBCD66EE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E2EA04-5DCB-46C0-AD27-3B9DB718D2F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Arial"/>
              </a:rPr>
              <a:t>Related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aView, VolView, Amira, etc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ly commerc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ic visualization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icated user interfa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08EA-AB64-44DA-8987-FFFA0873F978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A9862E-647C-442D-8B5F-6BB0129C954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WMeshVis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ilored to data visualization needs on surfa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rip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ex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3840-6ED4-4EB1-8387-9214B2B5531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B5FFCD-ADD8-45DC-8140-866849DBC9B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2660" t="6031" r="2830" b="2263"/>
          <a:stretch/>
        </p:blipFill>
        <p:spPr>
          <a:xfrm rot="16549800">
            <a:off x="4991040" y="1180800"/>
            <a:ext cx="3505320" cy="41907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rcRect l="6605" t="11638" r="6605" b="10249"/>
          <a:stretch/>
        </p:blipFill>
        <p:spPr>
          <a:xfrm>
            <a:off x="76320" y="3940200"/>
            <a:ext cx="5562360" cy="28414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Arial"/>
              </a:rPr>
              <a:t>Scalar Data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sua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0292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-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ance ma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easurements: Cortical thickness, local curvature, parametrization, etc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44F5-1480-4472-80B7-720AE1A79223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B5A0B2-7FDC-4FFE-BF66-AC209CAE5AF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267080" y="2057400"/>
            <a:ext cx="4876920" cy="40514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28600" y="2057400"/>
            <a:ext cx="4195800" cy="4011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482E-6135-45A6-9B16-C4A1D35E7968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35856B-7394-4D55-A672-D00A14E9746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Arial"/>
              </a:rPr>
              <a:t>Vector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Visua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ve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pe compari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mal vectors, tangent vectors, principal direction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rcRect l="2973" t="1201" r="0" b="3729"/>
          <a:stretch/>
        </p:blipFill>
        <p:spPr>
          <a:xfrm>
            <a:off x="533520" y="3805200"/>
            <a:ext cx="5867280" cy="3052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191120" y="1219320"/>
            <a:ext cx="4857480" cy="36018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rcRect l="50905" t="0" r="0" b="0"/>
          <a:stretch/>
        </p:blipFill>
        <p:spPr>
          <a:xfrm>
            <a:off x="6248520" y="4191120"/>
            <a:ext cx="2895480" cy="2303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22AD-EA04-42E8-8E74-36C3955EA09D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A725A3-2F46-4C82-B318-1D7A2426288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Arial"/>
              </a:rPr>
              <a:t>Ellipsoid Field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sua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variance matr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990720" y="2743200"/>
            <a:ext cx="7543800" cy="341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4170-A241-417F-BD2C-B8E875D6BDB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0CCE02-26CC-43A2-A0AD-A110F5CC5D0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Arial"/>
              </a:rPr>
              <a:t>Space Curv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Visua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hs, integral curves, level sets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rcRect l="0" t="10690" r="0" b="0"/>
          <a:stretch/>
        </p:blipFill>
        <p:spPr>
          <a:xfrm>
            <a:off x="838080" y="2514600"/>
            <a:ext cx="7772400" cy="3944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F306-BC07-49F0-9B1E-850B1EFEB196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9109A0-E252-4955-BD0A-81CA235F270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1T13:28:06Z</dcterms:created>
  <dc:creator>Andrea Mantler</dc:creator>
  <dc:description/>
  <dc:language>en-US</dc:language>
  <cp:lastModifiedBy>Ipek Oguz</cp:lastModifiedBy>
  <dcterms:modified xsi:type="dcterms:W3CDTF">2006-09-30T19:58:03Z</dcterms:modified>
  <cp:revision>37</cp:revision>
  <dc:subject/>
  <dc:title>PowerPoint Presentation</dc:title>
</cp:coreProperties>
</file>